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E86B7-FB02-40D8-BE74-B6BF63236C7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AAE40B-0DB7-4D8A-AD59-A2385F97D4D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768A6F-C254-4DDE-9309-FABDD54E7B0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9C002E-DB49-43FC-BD48-A9B0001E3FF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D30C97-D3F9-4DCE-A458-C30C372B20E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B5E966-901E-4CC3-881E-2A3333DCB03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29CCE0-8345-4D91-A254-4EB76D1A000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A1A90-155F-4863-9527-0BA8156BB3F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8285D1-8517-433C-A544-7744CC1CCEC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D57138-980D-4D35-89A5-89CDDB7EA81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BA0917-D34F-47AD-87BD-D01CB84266E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301113-149A-404A-9CD1-3B8F80D00D9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A91197-9F73-4651-9667-A011B5F8335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A64771-561F-4F21-91B1-99F8DF64A56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E90E43-FC2A-4978-A6ED-C543EC90967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10B108-AD65-4CCC-A68C-9DF66560138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E2BF95-E203-4987-9DCD-9107E59F9C6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B2C16A-DBDF-4CD8-9F25-9A35CBB5BA7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65DAC0-6F3A-4BC4-ADD1-8C03AD63115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F54A14-1EF7-4643-9EEC-69784E00074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50738-AE49-4F88-9002-619FE6C43FA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324C05-42E8-4C5C-8C85-8E9827C066D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2CF55E-E5CF-4C78-AAEF-EBB6F84ADEA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3E52F1-29A6-4D6F-B8BE-B7008D16DB8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615043-F8C5-4914-8068-23A69630930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ED1F0A-775C-4BCF-9D3F-A2FF5B1F4BF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C0F8AC-9E93-4252-9BAF-9F6778C5989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4BBE-1355-4253-84A4-660570ADBC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F9E8-00D9-4C6E-A4BE-A4E03DA5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87B2-D5FD-4429-AA06-20632CBF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8536-5AD1-4E5F-81FD-2F10C68731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C3D8-FEF7-4D17-8716-C92CB444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8643-08FE-4CE7-871F-F71662A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D460-20A3-4952-AB37-A49C8F92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7E9A-41A3-4197-A03D-8AF2D1A6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BA38-03A4-4FC3-A609-AF8A122D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5A4F4-92AE-432F-9990-3C1FBA39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6312B-AAA1-45CC-8ED4-6E8D955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63D7-B95A-4373-81A5-3FDAA9BA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980F69-771D-49A3-8740-A32C6F8D0212}" type="slidenum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65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UILLAUME APOLLINAIRE (1880-1918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it des innovations important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ar rapport à la tradition poétique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quoi consiste la modernité d’Apollinaire?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183852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836640"/>
            <a:ext cx="82915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l parvient à </a:t>
            </a:r>
            <a:r>
              <a:rPr b="0" lang="fr-FR" sz="2600" spc="-1" strike="noStrike">
                <a:solidFill>
                  <a:srgbClr val="ff0000"/>
                </a:solidFill>
                <a:latin typeface="Calibri"/>
              </a:rPr>
              <a:t>déconstruire la forme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traditionnelle du poème en créant avec les mots des </a:t>
            </a:r>
            <a:r>
              <a:rPr b="0" lang="fr-FR" sz="2600" spc="-1" strike="noStrike">
                <a:solidFill>
                  <a:srgbClr val="ff0000"/>
                </a:solidFill>
                <a:latin typeface="Calibri"/>
              </a:rPr>
              <a:t>poèmes-dessins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e sont les calligrammes: la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isposition typographique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produit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l’idée-clé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du tex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ns les calligrammes il y a même une idée de plasticité, de matérialité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s. Dans le cas de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Il Pleut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,  les vers   deviennent  des gouttes et des lar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547560" cy="87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es cont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24000" y="765000"/>
            <a:ext cx="87120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introduit dans la poés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 monde moderne industriel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machines, découvertes scientifiques etc., tramway, rail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thèmes d’actuali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la publicité, l’industr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a une préférence pou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lle modern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architectu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mode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. dans « 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Zon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(Alcools 1913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ong poème (155 vers) il affirme la modernit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« j’aime la grâce de cette rue industrielle 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 la fin tu es las de ce monde ancien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ergère ô tour Eiffel le troupeau des ponts bêle ce matin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Tu en as assez de vivre dans l'antiquité grecque et romaine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549360"/>
            <a:ext cx="85075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Le poèm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Zon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est emblématique de l’ESPRIT NOUVEA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thématique de la ville et du monde mode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images audacieuses, goût de l’ét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mélange des souvenirs et du réel (tentative d’appliquer sur l’objet littéraire les techniques de la peinture cubist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pendant dans sa production Apollinaire reprend souvent les thèmes lyriques de la trad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m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a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e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voy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nostal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is dans quel but  Apollinaire donne sa préférence...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à une syntaxe har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à l'abandon de la ponc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aux possibilités figuratives des 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à certains cont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l essaie d’incarner en poési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ESPRIT NOUV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’oublions pas qu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s innovations poétiques vont dans le même sens que les recherches futuristes puis cubistes en peinture (ami de Derain, Dufy, Marinetti, Braque et Picass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réquente les milieux intellectuels et artist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amateur de peinture et critique d'ar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réquente les cafés et les ateliers des artist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en particulier l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Bateau Lavoi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Montmart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22600" y="1600200"/>
            <a:ext cx="5698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l est ami de Matis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Apollinaire V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par Matisse (195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21970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l se lie avec tous ceux qui cherchent un art nouveau pour la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littéra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éon-Paul Far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x Jaco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fred Ja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8360" y="692280"/>
            <a:ext cx="7859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Il est moder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) dans sa poésie, au nivea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de la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form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: il apporte des nouveau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contenu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: il introduit dans la poésie le monde moderne industriel (machines, découvertes scientifiques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B) Il sait comprendre l’esprit de son te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Il fréquente les milieux littéraires et artist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se lie avec Marie Laurencin qui lui fait connaîtr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82920" y="1995480"/>
            <a:ext cx="41781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défend les peintres cubistes dans l’étu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es Peintres cubistes, méditations esthétiqu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1913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484360" y="177480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publi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'Antitradition futurist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191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817720" cy="3641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835280" y="981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n faveur du mouvement animé par l'italien Marinetti qui célèbre l'homme moder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n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on expérience poétique est influencée p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on goût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pour les arts plastiques (la peinture, la sculpture, l'ar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es fréquent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(peintres et artistes, romanciers, poètes, musicie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C'est un homme passionné p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out ce qui touche à son te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outes les formes d'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outes les manifestations de ce qu'il appel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'Esprit Nouv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sprit Nouveau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odernism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la plus féconde des tendances pour comprendre l’évolution de la poésie et de l’art au XXe siècle. Il impos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contenus nouveaux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dans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olong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s innovation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Baudelaire qui avait introduit une poétique de la ville moderne 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pleen de Pari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s innovations poétiques vont dans le même sens que 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cherches futurist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ui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ubis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i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forme nouvelle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e prolongement de Baudelaire, Rimbaud, Mallarmé: travail sur le langage, abandon des règles métriques et de la ponctuation. La phrase traditionnelle se déconstruit  et augmente ses potentialités interprét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ttangolo 1" descr=""/>
          <p:cNvPicPr/>
          <p:nvPr/>
        </p:nvPicPr>
        <p:blipFill>
          <a:blip r:embed="rId1"/>
          <a:stretch/>
        </p:blipFill>
        <p:spPr>
          <a:xfrm>
            <a:off x="390600" y="-30240"/>
            <a:ext cx="8186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765000"/>
            <a:ext cx="84358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premier contact avec Apollinaire passe par 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e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t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oix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Times New Roman"/>
              </a:rPr>
              <a:t>Observe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Sous le pont Mirabeau coule la S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Et nos am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Faut-il qu'il m'en souvi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(Le pont Mirabeau, Alcools 191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’est-ce que vous observez au point de vue graphiqu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n’y a pas de ponctu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 conséquent 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uses phoniqu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isparaiss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ais dans quel but il supprime la ponctuati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028600" cy="15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516720" y="2133720"/>
            <a:ext cx="1295280" cy="82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7740720" y="2421000"/>
            <a:ext cx="124920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836640"/>
            <a:ext cx="8002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Times New Roman"/>
              </a:rPr>
              <a:t>Écoutez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ous le pont Mirabeau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coul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la S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Et nos am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aut-il qu'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il m'en souvi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Demandons-no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groupe nominal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« et nos amours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 est-il lecomplément obj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u verbe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« coule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 de la forme impersonnel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« il m’en souvienne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isons  encore les 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je li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à haute voix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vers: je ne peux pas distinguer si le groupe nominal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« et nos amours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 est lié au verbe "coule", ou s'il est lié à la forme impersonnell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"m'en souvienne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596960" cy="122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1469880" cy="9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8028000" y="2349360"/>
            <a:ext cx="961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836640"/>
            <a:ext cx="8147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l est l’effet produit par la suppression de la ponctu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vers devient ambi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significations se superposent comme dans une peinture cub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vers semblent flo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pollinaire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déconstruit la phras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et joue sur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l’ambigüité phoniqu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our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 enrichir la sign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596960" cy="122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792000" cy="5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9619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ême ici le contact avec le poème passe pa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œil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la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vo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744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221004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2303640" cy="370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3419640" y="692280"/>
            <a:ext cx="221904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961080" cy="431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32400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cription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Mon coeur pareil à une flemme renversé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"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765000"/>
            <a:ext cx="46800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Observez la mise en p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(Le poème se lit de haut en bas en partant de gauch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Quel est  le rapport entre le titre et la mise en p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ranscri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Il pleut des voix de femmes comme si elles étaient mortes même dans le souvenir. C’est vous aussi qu’il pleut merveilleuses rencontres de ma vie ô gouttelet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398920" y="1484280"/>
            <a:ext cx="3160800" cy="505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02:43Z</dcterms:created>
  <dc:creator>Casa</dc:creator>
  <dc:description/>
  <dc:language>en-US</dc:language>
  <cp:lastModifiedBy>Casa</cp:lastModifiedBy>
  <dcterms:modified xsi:type="dcterms:W3CDTF">2014-01-09T17:12:04Z</dcterms:modified>
  <cp:revision>143</cp:revision>
  <dc:subject/>
  <dc:title>Diapositiva 1</dc:title>
</cp:coreProperties>
</file>