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3.jpeg" ContentType="image/jpeg"/>
  <Override PartName="/ppt/media/image8.jpeg" ContentType="image/jpeg"/>
  <Override PartName="/ppt/media/image7.jpeg" ContentType="image/jpeg"/>
  <Override PartName="/ppt/media/image18.png" ContentType="image/png"/>
  <Override PartName="/ppt/media/image19.png" ContentType="image/png"/>
  <Override PartName="/ppt/media/image3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Text Box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dt" idx="3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4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it-IT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D166AEF-743B-4782-9983-4ABF920F576A}" type="slidenum">
              <a:rPr b="0" lang="it-IT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4CA8644-D7AF-415D-9E74-37E5DBDFAD51}" type="slidenum">
              <a:rPr b="0" lang="it-IT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714C66B-CAFA-4B55-BDDB-3F2961A92C2A}" type="slidenum">
              <a:rPr b="0" lang="it-IT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D916E73-26F5-4FEA-9C45-C39347C3A72C}" type="slidenum">
              <a:rPr b="0" lang="it-IT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D8B7DC5-72A5-4E43-952F-6659465DC1F1}" type="slidenum">
              <a:rPr b="0" lang="it-IT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A1DE948-C7F4-497D-AF4D-9E56B4F77482}" type="slidenum">
              <a:rPr b="0" lang="it-IT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A398C46-5067-416E-8703-A9A25D9A2F94}" type="slidenum">
              <a:rPr b="0" lang="it-IT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C1C220F-51AD-44E9-9EC8-FB9413DD44DA}" type="slidenum">
              <a:rPr b="0" lang="it-IT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7D55D65-DA71-4A0B-84BF-DF5A175F3F46}" type="slidenum">
              <a:rPr b="0" lang="it-IT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DFC1BDE-C961-420C-BD59-CA28F4C6D970}" type="slidenum">
              <a:rPr b="0" lang="it-IT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F411260-075C-4F44-B871-B81B559BF768}" type="slidenum">
              <a:rPr b="0" lang="it-IT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DCB4513-668C-43D3-BE65-47C02F97A142}" type="slidenum">
              <a:rPr b="0" lang="it-IT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0FF782F-EB19-4126-B6B1-0302628A37F2}" type="slidenum">
              <a:rPr b="0" lang="it-IT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C69D48B-340B-404C-B729-6E77C9155504}" type="slidenum">
              <a:rPr b="0" lang="it-IT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C5712E2-DA51-45D0-B132-0A12CDFD1CDD}" type="slidenum">
              <a:rPr b="0" lang="it-IT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EC344B3-3EF7-4519-911F-7E84B1A56278}" type="slidenum">
              <a:rPr b="0" lang="it-IT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1E1A064-DFAE-4C89-AEAE-86B1FB8D309A}" type="slidenum">
              <a:rPr b="0" lang="it-IT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1E1325E-F866-44A8-80DD-D4872AB41340}" type="slidenum">
              <a:rPr b="0" lang="it-IT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46C4A77-6E40-4FD4-B3BF-8257AE187C2D}" type="slidenum">
              <a:rPr b="0" lang="it-IT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7C1508A-2D0C-4ABC-B796-7D6FF3D0C1E2}" type="slidenum">
              <a:rPr b="0" lang="it-IT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D03C455-0204-4CB5-896E-9A19F37921FC}" type="slidenum">
              <a:rPr b="0" lang="it-IT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3DC0030-42E3-4D64-BCA2-9438E79DC5ED}" type="slidenum">
              <a:rPr b="0" lang="it-IT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B8A7156-DCD6-42E3-B5B9-974B82097CFE}" type="slidenum">
              <a:rPr b="0" lang="it-IT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DFF4307-DE95-433D-8D57-EEDAA7E789CC}" type="slidenum">
              <a:rPr b="0" lang="it-IT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65AEE5D-278A-459B-A254-835368146A65}" type="slidenum">
              <a:rPr b="0" lang="it-IT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8F54710-6F74-4926-9A0B-513D94D43CC9}" type="slidenum">
              <a:rPr b="0" lang="it-IT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1C161A8-4DDE-4FB6-A221-563BF2C1891A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349C80-B0D6-44E0-82CE-3DE57D9C88A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A3324F-9035-46B9-B805-262D6398D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D7A7C3-2311-4304-90BC-19E214238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1532D4-FC36-4AE3-B383-3368B3A49AE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75382B-65AA-49C1-96C2-ADC6CD696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5D7590-761B-41A9-B802-E7CE631B5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335014-4132-4E4E-A494-F1637C096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55AB64-75C9-459B-A550-D31C3689F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563BB7-45FF-4B38-A665-374121320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E7F7E3-746F-453A-A9FC-D4D453386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1498E4-0154-4E40-A63D-334B96B78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760002-4C6E-4B23-A4D7-AE6F2ABF7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it-IT" sz="18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204B736-0307-4DE6-923C-A0EE8CDBDB28}" type="slidenum"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1"/>
          <p:cNvSpPr/>
          <p:nvPr/>
        </p:nvSpPr>
        <p:spPr>
          <a:xfrm>
            <a:off x="457200" y="274680"/>
            <a:ext cx="8229600" cy="65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0" lang="it-IT" sz="4000" spc="-1" strike="noStrike">
                <a:solidFill>
                  <a:srgbClr val="000000"/>
                </a:solidFill>
                <a:latin typeface="Calibri"/>
              </a:rPr>
              <a:t>GUILLAUME APOLLINAIRE (1880-1918)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introduit des innovations importantes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par rapport à la tradition poétique.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En quoi consiste la modernité d’Apollinaire?</a:t>
            </a:r>
            <a:br>
              <a:rPr sz="4000"/>
            </a:br>
            <a:br>
              <a:rPr sz="40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3348000" y="2060640"/>
            <a:ext cx="1838520" cy="2485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alibri"/>
              </a:rPr>
              <a:t>La forme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Text Box 2"/>
          <p:cNvSpPr/>
          <p:nvPr/>
        </p:nvSpPr>
        <p:spPr>
          <a:xfrm>
            <a:off x="457200" y="836640"/>
            <a:ext cx="8291520" cy="52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alibri"/>
              </a:rPr>
              <a:t>Il parvient à </a:t>
            </a:r>
            <a:r>
              <a:rPr b="0" lang="fr-FR" sz="2600" spc="-1" strike="noStrike">
                <a:solidFill>
                  <a:srgbClr val="ff0000"/>
                </a:solidFill>
                <a:latin typeface="Calibri"/>
              </a:rPr>
              <a:t>déconstruire la forme </a:t>
            </a:r>
            <a:r>
              <a:rPr b="0" lang="fr-FR" sz="2600" spc="-1" strike="noStrike">
                <a:solidFill>
                  <a:srgbClr val="000000"/>
                </a:solidFill>
                <a:latin typeface="Calibri"/>
              </a:rPr>
              <a:t>traditionnelle du poème en créant avec les mots des </a:t>
            </a:r>
            <a:r>
              <a:rPr b="0" lang="fr-FR" sz="2600" spc="-1" strike="noStrike">
                <a:solidFill>
                  <a:srgbClr val="ff0000"/>
                </a:solidFill>
                <a:latin typeface="Calibri"/>
              </a:rPr>
              <a:t>poèmes-dessins</a:t>
            </a:r>
            <a:r>
              <a:rPr b="0" lang="fr-FR" sz="2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alibri"/>
              </a:rPr>
              <a:t>Ce sont les calligrammes: la </a:t>
            </a:r>
            <a:r>
              <a:rPr b="1" lang="fr-FR" sz="2600" spc="-1" strike="noStrike">
                <a:solidFill>
                  <a:srgbClr val="000000"/>
                </a:solidFill>
                <a:latin typeface="Calibri"/>
              </a:rPr>
              <a:t>disposition typographique </a:t>
            </a:r>
            <a:r>
              <a:rPr b="0" lang="fr-FR" sz="2600" spc="-1" strike="noStrike">
                <a:solidFill>
                  <a:srgbClr val="000000"/>
                </a:solidFill>
                <a:latin typeface="Calibri"/>
              </a:rPr>
              <a:t>reproduit </a:t>
            </a:r>
            <a:r>
              <a:rPr b="1" lang="fr-FR" sz="2600" spc="-1" strike="noStrike">
                <a:solidFill>
                  <a:srgbClr val="000000"/>
                </a:solidFill>
                <a:latin typeface="Calibri"/>
              </a:rPr>
              <a:t>l’idée-clé</a:t>
            </a:r>
            <a:r>
              <a:rPr b="0" lang="fr-FR" sz="2600" spc="-1" strike="noStrike">
                <a:solidFill>
                  <a:srgbClr val="000000"/>
                </a:solidFill>
                <a:latin typeface="Calibri"/>
              </a:rPr>
              <a:t> du texte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alibri"/>
              </a:rPr>
              <a:t>Dans les calligrammes il y a même une idée de plasticité, de matérialité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fr-FR" sz="2600" spc="-1" strike="noStrike">
                <a:solidFill>
                  <a:srgbClr val="000000"/>
                </a:solidFill>
                <a:latin typeface="Calibri"/>
              </a:rPr>
              <a:t>Es. Dans le cas de </a:t>
            </a:r>
            <a:r>
              <a:rPr b="0" i="1" lang="fr-FR" sz="2600" spc="-1" strike="noStrike">
                <a:solidFill>
                  <a:srgbClr val="000000"/>
                </a:solidFill>
                <a:latin typeface="Calibri"/>
              </a:rPr>
              <a:t>Il Pleut</a:t>
            </a:r>
            <a:r>
              <a:rPr b="0" lang="fr-FR" sz="2600" spc="-1" strike="noStrike">
                <a:solidFill>
                  <a:srgbClr val="000000"/>
                </a:solidFill>
                <a:latin typeface="Calibri"/>
              </a:rPr>
              <a:t>,  les vers   deviennent  des gouttes et des larm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3" name="Picture 3" descr=""/>
          <p:cNvPicPr/>
          <p:nvPr/>
        </p:nvPicPr>
        <p:blipFill>
          <a:blip r:embed="rId1"/>
          <a:stretch/>
        </p:blipFill>
        <p:spPr>
          <a:xfrm>
            <a:off x="7885080" y="5589720"/>
            <a:ext cx="547560" cy="877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1"/>
          <p:cNvSpPr/>
          <p:nvPr/>
        </p:nvSpPr>
        <p:spPr>
          <a:xfrm>
            <a:off x="468360" y="333360"/>
            <a:ext cx="82296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Calibri"/>
              </a:rPr>
              <a:t>Les conten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Text Box 2"/>
          <p:cNvSpPr/>
          <p:nvPr/>
        </p:nvSpPr>
        <p:spPr>
          <a:xfrm>
            <a:off x="324000" y="765000"/>
            <a:ext cx="8712000" cy="56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Il introduit dans la poési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le monde moderne industriel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(machines, découvertes scientifiques etc., tramway, rails, etc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les thèmes d’actualité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(la publicité, l’industri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Il a une préférence pour la 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ville moderne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et 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l’architecture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moder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Es. dans « </a:t>
            </a:r>
            <a:r>
              <a:rPr b="0" i="1" lang="fr-FR" sz="2400" spc="-1" strike="noStrike">
                <a:solidFill>
                  <a:srgbClr val="000000"/>
                </a:solidFill>
                <a:latin typeface="Calibri"/>
              </a:rPr>
              <a:t>Zone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» </a:t>
            </a:r>
            <a:r>
              <a:rPr b="0" i="1" lang="fr-FR" sz="2400" spc="-1" strike="noStrike">
                <a:solidFill>
                  <a:srgbClr val="000000"/>
                </a:solidFill>
                <a:latin typeface="Calibri"/>
              </a:rPr>
              <a:t>(Alcools 1913)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, long poème (155 vers) il affirme la modernité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Calibri"/>
              </a:rPr>
              <a:t>« j’aime la grâce de cette rue industrielle »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Calibri"/>
              </a:rPr>
              <a:t>« 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À</a:t>
            </a:r>
            <a:r>
              <a:rPr b="0" i="1" lang="fr-FR" sz="2400" spc="-1" strike="noStrike">
                <a:solidFill>
                  <a:srgbClr val="000000"/>
                </a:solidFill>
                <a:latin typeface="Calibri"/>
              </a:rPr>
              <a:t> la fin tu es las de ce monde ancien</a:t>
            </a:r>
            <a:br>
              <a:rPr sz="2400"/>
            </a:br>
            <a:r>
              <a:rPr b="0" i="1" lang="fr-FR" sz="2400" spc="-1" strike="noStrike">
                <a:solidFill>
                  <a:srgbClr val="000000"/>
                </a:solidFill>
                <a:latin typeface="Calibri"/>
              </a:rPr>
              <a:t>Bergère ô tour Eiffel le troupeau des ponts bêle ce matin</a:t>
            </a:r>
            <a:br>
              <a:rPr sz="2400"/>
            </a:br>
            <a:r>
              <a:rPr b="0" i="1" lang="fr-FR" sz="2400" spc="-1" strike="noStrike">
                <a:solidFill>
                  <a:srgbClr val="000000"/>
                </a:solidFill>
                <a:latin typeface="Calibri"/>
              </a:rPr>
              <a:t>Tu en as assez de vivre dans l'antiquité grecque et romaine 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1"/>
          <p:cNvSpPr/>
          <p:nvPr/>
        </p:nvSpPr>
        <p:spPr>
          <a:xfrm>
            <a:off x="457200" y="549360"/>
            <a:ext cx="8507520" cy="55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  <a:ea typeface="Arial"/>
              </a:rPr>
              <a:t>Le poème </a:t>
            </a:r>
            <a:r>
              <a:rPr b="0" i="1" lang="fr-FR" sz="2800" spc="-1" strike="noStrike">
                <a:solidFill>
                  <a:srgbClr val="000000"/>
                </a:solidFill>
                <a:latin typeface="Calibri"/>
                <a:ea typeface="Arial"/>
              </a:rPr>
              <a:t>Zone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  <a:ea typeface="Arial"/>
              </a:rPr>
              <a:t> est emblématique de l’ESPRIT NOUVEAU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  <a:ea typeface="Arial"/>
              </a:rPr>
              <a:t>thématique de la ville et du monde moder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  <a:ea typeface="Arial"/>
              </a:rPr>
              <a:t>images audacieuses, goût de l’étra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  <a:ea typeface="Arial"/>
              </a:rPr>
              <a:t>mélange des souvenirs et du réel (tentative d’appliquer sur l’objet littéraire les techniques de la peinture cubiste)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8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3" dur="5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500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1"/>
          <p:cNvSpPr/>
          <p:nvPr/>
        </p:nvSpPr>
        <p:spPr>
          <a:xfrm>
            <a:off x="457200" y="227160"/>
            <a:ext cx="822960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Text Box 2"/>
          <p:cNvSpPr/>
          <p:nvPr/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Cependant dans sa production Apollinaire reprend souvent les thèmes lyriques de la traditio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L’am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Le tem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Les sais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L’e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Les voya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La nostalg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Mais dans quel but  Apollinaire donne sa préférence...</a:t>
            </a:r>
            <a:br>
              <a:rPr sz="4000"/>
            </a:br>
            <a:br>
              <a:rPr sz="40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Text Box 2"/>
          <p:cNvSpPr/>
          <p:nvPr/>
        </p:nvSpPr>
        <p:spPr>
          <a:xfrm>
            <a:off x="457200" y="1600200"/>
            <a:ext cx="814716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  <a:ea typeface="Arial"/>
              </a:rPr>
              <a:t>à une syntaxe hardi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  <a:ea typeface="Arial"/>
              </a:rPr>
              <a:t>à l'abandon de la ponctu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  <a:ea typeface="Arial"/>
              </a:rPr>
              <a:t>aux possibilités figuratives des ve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  <a:ea typeface="Arial"/>
              </a:rPr>
              <a:t>à certains conten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1"/>
          <p:cNvSpPr/>
          <p:nvPr/>
        </p:nvSpPr>
        <p:spPr>
          <a:xfrm>
            <a:off x="457200" y="274680"/>
            <a:ext cx="8229600" cy="52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Réponse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Il essaie d’incarner en poésie 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l’ESPRIT NOUVEAU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’oublions pas que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Ses innovations poétiques vont dans le même sens que les recherches futuristes puis cubistes en peinture (ami de Derain, Dufy, Marinetti, Braque et Picasso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il fréquente les milieux intellectuels et artistiqu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il est amateur de peinture et critique d'art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Il fréquente les cafés et les ateliers des artistes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 (en particulier le </a:t>
            </a:r>
            <a:r>
              <a:rPr b="0" i="1" lang="fr-FR" sz="2800" spc="-1" strike="noStrike">
                <a:solidFill>
                  <a:srgbClr val="000000"/>
                </a:solidFill>
                <a:latin typeface="Calibri"/>
              </a:rPr>
              <a:t>Bateau Lavoir 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à Montmartr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Picture 2" descr=""/>
          <p:cNvPicPr/>
          <p:nvPr/>
        </p:nvPicPr>
        <p:blipFill>
          <a:blip r:embed="rId1"/>
          <a:stretch/>
        </p:blipFill>
        <p:spPr>
          <a:xfrm>
            <a:off x="1722600" y="1600200"/>
            <a:ext cx="5698800" cy="452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Il est ami de Matisse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it-IT" sz="3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i="1" lang="it-IT" sz="3200" spc="-1" strike="noStrike">
                <a:solidFill>
                  <a:srgbClr val="000000"/>
                </a:solidFill>
                <a:latin typeface="Calibri"/>
              </a:rPr>
              <a:t>Apollinaire VI</a:t>
            </a: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 par Matisse (1952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Picture 3" descr=""/>
          <p:cNvPicPr/>
          <p:nvPr/>
        </p:nvPicPr>
        <p:blipFill>
          <a:blip r:embed="rId1"/>
          <a:stretch/>
        </p:blipFill>
        <p:spPr>
          <a:xfrm>
            <a:off x="3203640" y="1916280"/>
            <a:ext cx="2197080" cy="274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Il se lie avec tous ceux qui cherchent un art nouveau pour la </a:t>
            </a:r>
            <a:r>
              <a:rPr b="1" lang="fr-FR" sz="3600" spc="-1" strike="noStrike">
                <a:solidFill>
                  <a:srgbClr val="000000"/>
                </a:solidFill>
                <a:latin typeface="Calibri"/>
              </a:rPr>
              <a:t>littérature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2"/>
          <p:cNvSpPr/>
          <p:nvPr/>
        </p:nvSpPr>
        <p:spPr>
          <a:xfrm>
            <a:off x="457200" y="2205000"/>
            <a:ext cx="8229600" cy="39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Léon-Paul Fargu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Max Jacob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Alfred Jar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Text Box 2"/>
          <p:cNvSpPr/>
          <p:nvPr/>
        </p:nvSpPr>
        <p:spPr>
          <a:xfrm>
            <a:off x="468360" y="692280"/>
            <a:ext cx="78595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  <a:ea typeface="Arial"/>
              </a:rPr>
              <a:t>Il est modern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  <a:ea typeface="Arial"/>
              </a:rPr>
              <a:t>A) dans sa poésie, au niveau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  <a:ea typeface="Arial"/>
              </a:rPr>
              <a:t>de la </a:t>
            </a:r>
            <a:r>
              <a:rPr b="1" lang="fr-FR" sz="2800" spc="-1" strike="noStrike">
                <a:solidFill>
                  <a:srgbClr val="000000"/>
                </a:solidFill>
                <a:latin typeface="Calibri"/>
                <a:ea typeface="Arial"/>
              </a:rPr>
              <a:t>forme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  <a:ea typeface="Arial"/>
              </a:rPr>
              <a:t>: il apporte des nouveauté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  <a:ea typeface="Arial"/>
              </a:rPr>
              <a:t>des </a:t>
            </a:r>
            <a:r>
              <a:rPr b="1" lang="fr-FR" sz="2800" spc="-1" strike="noStrike">
                <a:solidFill>
                  <a:srgbClr val="000000"/>
                </a:solidFill>
                <a:latin typeface="Calibri"/>
                <a:ea typeface="Arial"/>
              </a:rPr>
              <a:t>contenus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  <a:ea typeface="Arial"/>
              </a:rPr>
              <a:t>: il introduit dans la poésie le monde moderne industriel (machines, découvertes scientifiques etc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  <a:ea typeface="Arial"/>
              </a:rPr>
              <a:t>B) Il sait comprendre l’esprit de son tem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  <a:ea typeface="Arial"/>
              </a:rPr>
              <a:t>Il fréquente les milieux littéraires et artistiqu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  <a:ea typeface="Arial"/>
              </a:rPr>
              <a:t>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Il se lie avec Marie Laurencin qui lui fait connaître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Picass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Picture 2" descr=""/>
          <p:cNvPicPr/>
          <p:nvPr/>
        </p:nvPicPr>
        <p:blipFill>
          <a:blip r:embed="rId1"/>
          <a:stretch/>
        </p:blipFill>
        <p:spPr>
          <a:xfrm>
            <a:off x="2482920" y="1995480"/>
            <a:ext cx="4178160" cy="37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il défend les peintres cubistes dans l’étude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fr-FR" sz="2800" spc="-1" strike="noStrike">
                <a:solidFill>
                  <a:srgbClr val="000000"/>
                </a:solidFill>
                <a:latin typeface="Calibri"/>
              </a:rPr>
              <a:t>Les Peintres cubistes, méditations esthétiques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 (1913)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Picture 2" descr=""/>
          <p:cNvPicPr/>
          <p:nvPr/>
        </p:nvPicPr>
        <p:blipFill>
          <a:blip r:embed="rId1"/>
          <a:stretch/>
        </p:blipFill>
        <p:spPr>
          <a:xfrm>
            <a:off x="2484360" y="1774800"/>
            <a:ext cx="4032360" cy="403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Il publie </a:t>
            </a:r>
            <a:r>
              <a:rPr b="0" i="1" lang="fr-FR" sz="2800" spc="-1" strike="noStrike">
                <a:solidFill>
                  <a:srgbClr val="000000"/>
                </a:solidFill>
                <a:latin typeface="Calibri"/>
              </a:rPr>
              <a:t>l'Antitradition futuriste 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(1914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Picture 2" descr=""/>
          <p:cNvPicPr/>
          <p:nvPr/>
        </p:nvPicPr>
        <p:blipFill>
          <a:blip r:embed="rId1"/>
          <a:stretch/>
        </p:blipFill>
        <p:spPr>
          <a:xfrm>
            <a:off x="3059280" y="1916280"/>
            <a:ext cx="2817720" cy="364140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3"/>
          <p:cNvSpPr/>
          <p:nvPr/>
        </p:nvSpPr>
        <p:spPr>
          <a:xfrm>
            <a:off x="1835280" y="981000"/>
            <a:ext cx="56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(en faveur du mouvement animé par l'italien Marinetti qui célèbre l'homme modern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alibri"/>
              </a:rPr>
              <a:t>En conclus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  <a:ea typeface="Arial"/>
              </a:rPr>
              <a:t>Son expérience poétique est influencée par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  <a:ea typeface="Arial"/>
              </a:rPr>
              <a:t>son goût 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  <a:ea typeface="Arial"/>
              </a:rPr>
              <a:t>pour les arts plastiques (la peinture, la sculpture, l'art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  <a:ea typeface="Arial"/>
              </a:rPr>
              <a:t>ses fréquentations 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  <a:ea typeface="Arial"/>
              </a:rPr>
              <a:t>(peintres et artistes, romanciers, poètes, musicien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457200" y="227160"/>
            <a:ext cx="822960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  <a:ea typeface="Arial"/>
              </a:rPr>
              <a:t>C'est un homme passionné par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  <a:ea typeface="Arial"/>
              </a:rPr>
              <a:t>tout ce qui touche à son tem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  <a:ea typeface="Arial"/>
              </a:rPr>
              <a:t>toutes les formes d'a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  <a:ea typeface="Arial"/>
              </a:rPr>
              <a:t>toutes les manifestations de ce qu'il appelle 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  <a:ea typeface="Arial"/>
              </a:rPr>
              <a:t>l'Esprit Nouvea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1"/>
          <p:cNvSpPr/>
          <p:nvPr/>
        </p:nvSpPr>
        <p:spPr>
          <a:xfrm>
            <a:off x="457200" y="333360"/>
            <a:ext cx="8229600" cy="64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i="1" lang="fr-FR" sz="2400" spc="-1" strike="noStrike">
                <a:solidFill>
                  <a:srgbClr val="000000"/>
                </a:solidFill>
                <a:latin typeface="Calibri"/>
              </a:rPr>
              <a:t>Esprit Nouveau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u </a:t>
            </a:r>
            <a:r>
              <a:rPr b="1" i="1" lang="fr-FR" sz="2400" spc="-1" strike="noStrike">
                <a:solidFill>
                  <a:srgbClr val="000000"/>
                </a:solidFill>
                <a:latin typeface="Calibri"/>
              </a:rPr>
              <a:t>Modernisme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: la plus féconde des tendances pour comprendre l’évolution de la poésie et de l’art au XXe siècle. Il impose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des </a:t>
            </a:r>
            <a:r>
              <a:rPr b="0" lang="fr-FR" sz="2400" spc="-1" strike="noStrike">
                <a:solidFill>
                  <a:srgbClr val="ff0000"/>
                </a:solidFill>
                <a:latin typeface="Calibri"/>
              </a:rPr>
              <a:t>contenus nouveaux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, dans le 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prolongement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des innovations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de Baudelaire qui avait introduit une poétique de la ville moderne (</a:t>
            </a:r>
            <a:r>
              <a:rPr b="0" i="1" lang="fr-FR" sz="2400" spc="-1" strike="noStrike">
                <a:solidFill>
                  <a:srgbClr val="000000"/>
                </a:solidFill>
                <a:latin typeface="Calibri"/>
              </a:rPr>
              <a:t>Spleen de Paris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Ces innovations poétiques vont dans le même sens que les 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recherches futuristes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puis 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cubistes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en peintur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une </a:t>
            </a:r>
            <a:r>
              <a:rPr b="0" lang="fr-FR" sz="2400" spc="-1" strike="noStrike">
                <a:solidFill>
                  <a:srgbClr val="ff0000"/>
                </a:solidFill>
                <a:latin typeface="Calibri"/>
              </a:rPr>
              <a:t>forme nouvelle: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dans le prolongement de Baudelaire, Rimbaud, Mallarmé: travail sur le langage, abandon des règles métriques et de la ponctuation. La phrase traditionnelle se déconstruit  et augmente ses potentialités interprétativ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Rettangolo 1" descr=""/>
          <p:cNvPicPr/>
          <p:nvPr/>
        </p:nvPicPr>
        <p:blipFill>
          <a:blip r:embed="rId1"/>
          <a:stretch/>
        </p:blipFill>
        <p:spPr>
          <a:xfrm>
            <a:off x="390600" y="-30240"/>
            <a:ext cx="8186760" cy="670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alibri"/>
              </a:rPr>
              <a:t>La forme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Text Box 2"/>
          <p:cNvSpPr/>
          <p:nvPr/>
        </p:nvSpPr>
        <p:spPr>
          <a:xfrm>
            <a:off x="457200" y="765000"/>
            <a:ext cx="8435880" cy="609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Le premier contact avec Apollinaire passe par l’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oeil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 et la 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voix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i="1" lang="fr-F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002060"/>
                </a:solidFill>
                <a:latin typeface="Times New Roman"/>
              </a:rPr>
              <a:t>Observez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i="1" lang="fr-FR" sz="2800" spc="-1" strike="noStrike">
                <a:solidFill>
                  <a:srgbClr val="ff0000"/>
                </a:solidFill>
                <a:latin typeface="Calibri"/>
              </a:rPr>
              <a:t>Sous le pont Mirabeau coule la Sei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i="1" lang="fr-FR" sz="28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i="1" lang="fr-FR" sz="2800" spc="-1" strike="noStrike">
                <a:solidFill>
                  <a:srgbClr val="ff0000"/>
                </a:solidFill>
                <a:latin typeface="Calibri"/>
              </a:rPr>
              <a:t>Et nos amou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i="1" lang="fr-FR" sz="2800" spc="-1" strike="noStrike">
                <a:solidFill>
                  <a:srgbClr val="ff0000"/>
                </a:solidFill>
                <a:latin typeface="Calibri"/>
              </a:rPr>
              <a:t>Faut-il qu'il m'en souvien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i="1" lang="fr-FR" sz="2800" spc="-1" strike="noStrike">
                <a:solidFill>
                  <a:srgbClr val="000000"/>
                </a:solidFill>
                <a:latin typeface="Calibri"/>
              </a:rPr>
              <a:t>                            </a:t>
            </a:r>
            <a:r>
              <a:rPr b="0" i="1" lang="fr-FR" sz="1800" spc="-1" strike="noStrike">
                <a:solidFill>
                  <a:srgbClr val="000000"/>
                </a:solidFill>
                <a:latin typeface="Calibri"/>
              </a:rPr>
              <a:t>(Le pont Mirabeau, Alcools 1913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Qu’est-ce que vous observez au point de vue graphiqu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Il n’y a pas de ponctuatio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par conséquent les 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pauses phoniques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disparaissen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Mais dans quel but il supprime la ponctuation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Picture 3" descr=""/>
          <p:cNvPicPr/>
          <p:nvPr/>
        </p:nvPicPr>
        <p:blipFill>
          <a:blip r:embed="rId1"/>
          <a:stretch/>
        </p:blipFill>
        <p:spPr>
          <a:xfrm>
            <a:off x="6659640" y="907920"/>
            <a:ext cx="2028600" cy="15573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" descr=""/>
          <p:cNvPicPr/>
          <p:nvPr/>
        </p:nvPicPr>
        <p:blipFill>
          <a:blip r:embed="rId2"/>
          <a:stretch/>
        </p:blipFill>
        <p:spPr>
          <a:xfrm>
            <a:off x="6516720" y="2133720"/>
            <a:ext cx="1295280" cy="8236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5" descr=""/>
          <p:cNvPicPr/>
          <p:nvPr/>
        </p:nvPicPr>
        <p:blipFill>
          <a:blip r:embed="rId3"/>
          <a:stretch/>
        </p:blipFill>
        <p:spPr>
          <a:xfrm>
            <a:off x="7740720" y="2421000"/>
            <a:ext cx="1249200" cy="93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5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5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alibri"/>
              </a:rPr>
              <a:t>La forme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Text Box 2"/>
          <p:cNvSpPr/>
          <p:nvPr/>
        </p:nvSpPr>
        <p:spPr>
          <a:xfrm>
            <a:off x="457200" y="836640"/>
            <a:ext cx="8002440" cy="52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fr-FR" sz="1600" spc="-1" strike="noStrike">
                <a:solidFill>
                  <a:srgbClr val="002060"/>
                </a:solidFill>
                <a:latin typeface="Times New Roman"/>
              </a:rPr>
              <a:t>Écoutez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i="1" lang="fr-FR" sz="2800" spc="-1" strike="noStrike">
                <a:solidFill>
                  <a:srgbClr val="000000"/>
                </a:solidFill>
                <a:latin typeface="Calibri"/>
              </a:rPr>
              <a:t>Sous le pont Mirabeau </a:t>
            </a:r>
            <a:r>
              <a:rPr b="1" i="1" lang="fr-FR" sz="2800" spc="-1" strike="noStrike">
                <a:solidFill>
                  <a:srgbClr val="000000"/>
                </a:solidFill>
                <a:latin typeface="Calibri"/>
              </a:rPr>
              <a:t>coule</a:t>
            </a:r>
            <a:r>
              <a:rPr b="0" i="1" lang="fr-FR" sz="2800" spc="-1" strike="noStrike">
                <a:solidFill>
                  <a:srgbClr val="000000"/>
                </a:solidFill>
                <a:latin typeface="Calibri"/>
              </a:rPr>
              <a:t> la Sei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i="1" lang="fr-F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fr-FR" sz="2800" spc="-1" strike="noStrike">
                <a:solidFill>
                  <a:srgbClr val="000000"/>
                </a:solidFill>
                <a:latin typeface="Calibri"/>
              </a:rPr>
              <a:t>Et nos amou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i="1" lang="fr-FR" sz="2800" spc="-1" strike="noStrike">
                <a:solidFill>
                  <a:srgbClr val="000000"/>
                </a:solidFill>
                <a:latin typeface="Calibri"/>
              </a:rPr>
              <a:t>Faut-il qu'</a:t>
            </a:r>
            <a:r>
              <a:rPr b="1" i="1" lang="fr-FR" sz="2800" spc="-1" strike="noStrike">
                <a:solidFill>
                  <a:srgbClr val="000000"/>
                </a:solidFill>
                <a:latin typeface="Calibri"/>
              </a:rPr>
              <a:t>il m'en souvien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i="1" lang="fr-FR" sz="1800" spc="-1" strike="noStrike">
                <a:solidFill>
                  <a:srgbClr val="000000"/>
                </a:solidFill>
                <a:latin typeface="Calibri"/>
              </a:rPr>
              <a:t>Demandons-nou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le groupe nominal  </a:t>
            </a:r>
            <a:r>
              <a:rPr b="0" i="1" lang="fr-FR" sz="2000" spc="-1" strike="noStrike">
                <a:solidFill>
                  <a:srgbClr val="000000"/>
                </a:solidFill>
                <a:latin typeface="Calibri"/>
              </a:rPr>
              <a:t>« et nos amours 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» est-il lecomplément objet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du verbe</a:t>
            </a:r>
            <a:r>
              <a:rPr b="0" i="1" lang="fr-FR" sz="2000" spc="-1" strike="noStrike">
                <a:solidFill>
                  <a:srgbClr val="000000"/>
                </a:solidFill>
                <a:latin typeface="Calibri"/>
              </a:rPr>
              <a:t> « coule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ou de la forme impersonnelle </a:t>
            </a:r>
            <a:r>
              <a:rPr b="0" i="1" lang="fr-FR" sz="2000" spc="-1" strike="noStrike">
                <a:solidFill>
                  <a:srgbClr val="000000"/>
                </a:solidFill>
                <a:latin typeface="Calibri"/>
              </a:rPr>
              <a:t>« il m’en souvienne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Times New Roman"/>
              </a:rPr>
              <a:t>Lisons  encore les v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Si je lis 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à haute voix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les vers: je ne peux pas distinguer si le groupe nominal </a:t>
            </a:r>
            <a:r>
              <a:rPr b="0" i="1" lang="fr-FR" sz="2400" spc="-1" strike="noStrike">
                <a:solidFill>
                  <a:srgbClr val="000000"/>
                </a:solidFill>
                <a:latin typeface="Calibri"/>
              </a:rPr>
              <a:t>« et nos amours 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» est lié au verbe "coule", ou s'il est lié à la forme impersonnelle </a:t>
            </a:r>
            <a:r>
              <a:rPr b="0" i="1" lang="fr-FR" sz="2400" spc="-1" strike="noStrike">
                <a:solidFill>
                  <a:srgbClr val="000000"/>
                </a:solidFill>
                <a:latin typeface="Calibri"/>
              </a:rPr>
              <a:t>"m'en souvienne"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" name="Picture 3" descr=""/>
          <p:cNvPicPr/>
          <p:nvPr/>
        </p:nvPicPr>
        <p:blipFill>
          <a:blip r:embed="rId1"/>
          <a:stretch/>
        </p:blipFill>
        <p:spPr>
          <a:xfrm>
            <a:off x="7164360" y="907920"/>
            <a:ext cx="1596960" cy="12272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" descr=""/>
          <p:cNvPicPr/>
          <p:nvPr/>
        </p:nvPicPr>
        <p:blipFill>
          <a:blip r:embed="rId2"/>
          <a:stretch/>
        </p:blipFill>
        <p:spPr>
          <a:xfrm>
            <a:off x="6804000" y="1989000"/>
            <a:ext cx="1469880" cy="9352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"/>
          <p:cNvPicPr/>
          <p:nvPr/>
        </p:nvPicPr>
        <p:blipFill>
          <a:blip r:embed="rId3"/>
          <a:stretch/>
        </p:blipFill>
        <p:spPr>
          <a:xfrm>
            <a:off x="8028000" y="2349360"/>
            <a:ext cx="961920" cy="719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6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6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alibri"/>
              </a:rPr>
              <a:t>La forme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Text Box 2"/>
          <p:cNvSpPr/>
          <p:nvPr/>
        </p:nvSpPr>
        <p:spPr>
          <a:xfrm>
            <a:off x="457200" y="836640"/>
            <a:ext cx="8147160" cy="56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Quel est l’effet produit par la suppression de la ponctuatio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le vers devient ambig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les significations se superposent comme dans une peinture cubis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les vers semblent flot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Le </a:t>
            </a:r>
            <a:r>
              <a:rPr b="0" lang="fr-FR" sz="2800" spc="-1" strike="noStrike">
                <a:solidFill>
                  <a:srgbClr val="ff0000"/>
                </a:solidFill>
                <a:latin typeface="Calibri"/>
              </a:rPr>
              <a:t>but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:   </a:t>
            </a:r>
            <a:r>
              <a:rPr b="0" i="1" lang="fr-FR" sz="2800" spc="-1" strike="noStrike">
                <a:solidFill>
                  <a:srgbClr val="000000"/>
                </a:solidFill>
                <a:latin typeface="Calibri"/>
              </a:rPr>
              <a:t>Apollinaire </a:t>
            </a:r>
            <a:r>
              <a:rPr b="0" i="1" lang="fr-FR" sz="2800" spc="-1" strike="noStrike">
                <a:solidFill>
                  <a:srgbClr val="ff0000"/>
                </a:solidFill>
                <a:latin typeface="Calibri"/>
              </a:rPr>
              <a:t>déconstruit la phrase </a:t>
            </a:r>
            <a:r>
              <a:rPr b="0" i="1" lang="fr-FR" sz="2800" spc="-1" strike="noStrike">
                <a:solidFill>
                  <a:srgbClr val="000000"/>
                </a:solidFill>
                <a:latin typeface="Calibri"/>
              </a:rPr>
              <a:t>et joue sur </a:t>
            </a:r>
            <a:r>
              <a:rPr b="1" i="1" lang="fr-FR" sz="2800" spc="-1" strike="noStrike">
                <a:solidFill>
                  <a:srgbClr val="000000"/>
                </a:solidFill>
                <a:latin typeface="Calibri"/>
              </a:rPr>
              <a:t>l’ambigüité phonique </a:t>
            </a:r>
            <a:r>
              <a:rPr b="0" i="1" lang="fr-FR" sz="2800" spc="-1" strike="noStrike">
                <a:solidFill>
                  <a:srgbClr val="000000"/>
                </a:solidFill>
                <a:latin typeface="Calibri"/>
              </a:rPr>
              <a:t>pour</a:t>
            </a:r>
            <a:r>
              <a:rPr b="1" i="1" lang="fr-FR" sz="2800" spc="-1" strike="noStrike">
                <a:solidFill>
                  <a:srgbClr val="000000"/>
                </a:solidFill>
                <a:latin typeface="Calibri"/>
              </a:rPr>
              <a:t> enrichir la signifi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" name="Picture 3" descr=""/>
          <p:cNvPicPr/>
          <p:nvPr/>
        </p:nvPicPr>
        <p:blipFill>
          <a:blip r:embed="rId1"/>
          <a:stretch/>
        </p:blipFill>
        <p:spPr>
          <a:xfrm>
            <a:off x="7164360" y="907920"/>
            <a:ext cx="1596960" cy="12272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4" descr=""/>
          <p:cNvPicPr/>
          <p:nvPr/>
        </p:nvPicPr>
        <p:blipFill>
          <a:blip r:embed="rId2"/>
          <a:stretch/>
        </p:blipFill>
        <p:spPr>
          <a:xfrm>
            <a:off x="6372360" y="1628640"/>
            <a:ext cx="792000" cy="5050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5" descr=""/>
          <p:cNvPicPr/>
          <p:nvPr/>
        </p:nvPicPr>
        <p:blipFill>
          <a:blip r:embed="rId3"/>
          <a:stretch/>
        </p:blipFill>
        <p:spPr>
          <a:xfrm>
            <a:off x="6156360" y="836640"/>
            <a:ext cx="961920" cy="72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alibri"/>
              </a:rPr>
              <a:t>La forme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Rectangle 2"/>
          <p:cNvSpPr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Text Box 3"/>
          <p:cNvSpPr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Même ici le contact avec le poème passe par </a:t>
            </a:r>
            <a:r>
              <a:rPr b="1" lang="fr-FR" sz="2800" spc="-1" strike="noStrike">
                <a:solidFill>
                  <a:srgbClr val="000000"/>
                </a:solidFill>
                <a:latin typeface="Calibri"/>
              </a:rPr>
              <a:t>l’œil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 et la </a:t>
            </a:r>
            <a:r>
              <a:rPr b="1" lang="fr-FR" sz="2800" spc="-1" strike="noStrike">
                <a:solidFill>
                  <a:srgbClr val="000000"/>
                </a:solidFill>
                <a:latin typeface="Calibri"/>
              </a:rPr>
              <a:t>voi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" name="Picture 4" descr=""/>
          <p:cNvPicPr/>
          <p:nvPr/>
        </p:nvPicPr>
        <p:blipFill>
          <a:blip r:embed="rId1"/>
          <a:stretch/>
        </p:blipFill>
        <p:spPr>
          <a:xfrm>
            <a:off x="755640" y="1844640"/>
            <a:ext cx="2744640" cy="439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1" descr=""/>
          <p:cNvPicPr/>
          <p:nvPr/>
        </p:nvPicPr>
        <p:blipFill>
          <a:blip r:embed="rId1"/>
          <a:stretch/>
        </p:blipFill>
        <p:spPr>
          <a:xfrm>
            <a:off x="5076720" y="1916280"/>
            <a:ext cx="2210040" cy="29844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" descr=""/>
          <p:cNvPicPr/>
          <p:nvPr/>
        </p:nvPicPr>
        <p:blipFill>
          <a:blip r:embed="rId2"/>
          <a:stretch/>
        </p:blipFill>
        <p:spPr>
          <a:xfrm>
            <a:off x="468360" y="549360"/>
            <a:ext cx="2019240" cy="22669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"/>
          <p:cNvPicPr/>
          <p:nvPr/>
        </p:nvPicPr>
        <p:blipFill>
          <a:blip r:embed="rId3"/>
          <a:stretch/>
        </p:blipFill>
        <p:spPr>
          <a:xfrm>
            <a:off x="1547640" y="2781360"/>
            <a:ext cx="2303640" cy="37069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4" descr=""/>
          <p:cNvPicPr/>
          <p:nvPr/>
        </p:nvPicPr>
        <p:blipFill>
          <a:blip r:embed="rId4"/>
          <a:stretch/>
        </p:blipFill>
        <p:spPr>
          <a:xfrm>
            <a:off x="3419640" y="692280"/>
            <a:ext cx="2219040" cy="241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1" descr=""/>
          <p:cNvPicPr/>
          <p:nvPr/>
        </p:nvPicPr>
        <p:blipFill>
          <a:blip r:embed="rId1"/>
          <a:stretch/>
        </p:blipFill>
        <p:spPr>
          <a:xfrm>
            <a:off x="2411280" y="1268280"/>
            <a:ext cx="3961080" cy="4318200"/>
          </a:xfrm>
          <a:prstGeom prst="rect">
            <a:avLst/>
          </a:prstGeom>
          <a:ln w="0">
            <a:noFill/>
          </a:ln>
        </p:spPr>
      </p:pic>
      <p:sp>
        <p:nvSpPr>
          <p:cNvPr id="78" name="Text Box 2"/>
          <p:cNvSpPr/>
          <p:nvPr/>
        </p:nvSpPr>
        <p:spPr>
          <a:xfrm>
            <a:off x="324000" y="5445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Transcription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"</a:t>
            </a:r>
            <a:r>
              <a:rPr b="0" i="1" lang="fr-FR" sz="2000" spc="-1" strike="noStrike">
                <a:solidFill>
                  <a:srgbClr val="000000"/>
                </a:solidFill>
                <a:latin typeface="Calibri"/>
              </a:rPr>
              <a:t>Mon coeur pareil à une flemme renversée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"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1"/>
          <p:cNvSpPr/>
          <p:nvPr/>
        </p:nvSpPr>
        <p:spPr>
          <a:xfrm>
            <a:off x="468360" y="765000"/>
            <a:ext cx="4680000" cy="586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  <a:ea typeface="Arial"/>
              </a:rPr>
              <a:t>Observez la mise en pag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Arial"/>
              </a:rPr>
              <a:t>(Le poème se lit de haut en bas en partant de gauch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  <a:ea typeface="Arial"/>
              </a:rPr>
              <a:t>Quel est  le rapport entre le titre et la mise en pag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Arial"/>
              </a:rPr>
              <a:t>Transcriptio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i="1" lang="fr-FR" sz="2400" spc="-1" strike="noStrike">
                <a:solidFill>
                  <a:srgbClr val="000000"/>
                </a:solidFill>
                <a:latin typeface="Calibri"/>
                <a:ea typeface="Arial"/>
              </a:rPr>
              <a:t>Il pleut des voix de femmes comme si elles étaient mortes même dans le souvenir. C’est vous aussi qu’il pleut merveilleuses rencontres de ma vie ô gouttelet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" name="Picture 2" descr=""/>
          <p:cNvPicPr/>
          <p:nvPr/>
        </p:nvPicPr>
        <p:blipFill>
          <a:blip r:embed="rId1"/>
          <a:stretch/>
        </p:blipFill>
        <p:spPr>
          <a:xfrm>
            <a:off x="5398920" y="1484280"/>
            <a:ext cx="3160800" cy="5054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24T16:02:43Z</dcterms:created>
  <dc:creator>Casa</dc:creator>
  <dc:description/>
  <dc:language>en-US</dc:language>
  <cp:lastModifiedBy>Casa</cp:lastModifiedBy>
  <dcterms:modified xsi:type="dcterms:W3CDTF">2014-01-09T17:12:04Z</dcterms:modified>
  <cp:revision>143</cp:revision>
  <dc:subject/>
  <dc:title>Diapositiva 1</dc:title>
</cp:coreProperties>
</file>