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6FB-3B26-40E3-9586-0FBE3375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551-9AEC-44EC-B7AA-264B7D54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80D-517B-4CBC-8CA8-BE36C661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ECE-75AF-482B-8F5C-C2F9D6AC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641-2042-48D1-AFB8-908491BB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E3F-4E19-4BD9-ABD6-1CDF035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53E5-0B9C-492A-8CDF-3B54F92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0B6-FCB9-4E39-BFB1-124550D2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701-5559-4389-81C8-40D535BA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138-5F40-43F1-A5CC-C080F868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A9A-2B12-4691-AC9E-2F7B6D8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241-8200-476F-9CA2-16FEEBC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0051-1AEA-48F9-9E5D-AD48BD936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76908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249120" y="468360"/>
            <a:ext cx="7491600" cy="498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1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47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6069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168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29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985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0" y="1125360"/>
            <a:ext cx="3909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850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54Z</dcterms:modified>
  <cp:revision>17</cp:revision>
  <dc:subject/>
  <dc:title>Presentación de PowerPoint</dc:title>
</cp:coreProperties>
</file>