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DBF-9488-4DD3-B79B-E046BF4B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FC7-F501-4B0E-A4F3-8EAA78B2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577-EC33-4646-A3B8-E622EDC9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F83-805D-428E-98A1-97F31180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8A2-2404-4610-BA2E-197E3B66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AB6-98FC-4D45-B69C-204F45A3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314-7909-404F-8F0F-C9DB540E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7615-4C4A-49DC-84AE-2298DC02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CE1-2A5F-427A-A941-5271654A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47F-55B8-4ED6-8AA0-25A56323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A96-E828-4261-8F71-505FF6B4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312-ADBF-43A7-BA77-2D484FB5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EFB-F57E-4CFF-B6A7-30002BE96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76908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25636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2" descr=""/>
          <p:cNvPicPr/>
          <p:nvPr/>
        </p:nvPicPr>
        <p:blipFill>
          <a:blip r:embed="rId1"/>
          <a:stretch/>
        </p:blipFill>
        <p:spPr>
          <a:xfrm>
            <a:off x="249120" y="468360"/>
            <a:ext cx="7491600" cy="498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 Marcador de contenido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18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4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47236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5 Marcador de contenido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47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6069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3 Imagen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3356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 Marcador de contenido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5168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 Marcador de contenido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1927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129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 Marcador de contenido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98508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0" y="1125360"/>
            <a:ext cx="3909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n 2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8508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54Z</dcterms:modified>
  <cp:revision>17</cp:revision>
  <dc:subject/>
  <dc:title>Presentación de PowerPoint</dc:title>
</cp:coreProperties>
</file>