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438-56FD-4DFA-A577-081C4D86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13D-5D2B-4ED0-81BD-F84AF1DB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E53-0E5F-471F-968A-626F3887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8ED-E86A-48C2-B416-C893DE74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18E-21DF-4526-9028-3DB1F689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22B-BF8A-4F67-B294-7391FA50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2BD1-BB1F-4143-B7EF-C98E8DDA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C68-2973-4579-AD49-612118B3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2BD-F22A-476D-A8E1-520A4B4A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39C-13AF-4E1E-AC51-850B3A55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C0F-82B1-4022-8705-7A8BB37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B5CE-9DD2-442D-8D7E-89ADD860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C377-E891-4268-B188-6A2C06E0B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Marcador de contenido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769080" cy="5067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525636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n 2" descr=""/>
          <p:cNvPicPr/>
          <p:nvPr/>
        </p:nvPicPr>
        <p:blipFill>
          <a:blip r:embed="rId1"/>
          <a:stretch/>
        </p:blipFill>
        <p:spPr>
          <a:xfrm>
            <a:off x="249120" y="468360"/>
            <a:ext cx="7491600" cy="4986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 Marcador de contenido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18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n 4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47236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5 Marcador de contenido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47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n 2" descr=""/>
          <p:cNvPicPr/>
          <p:nvPr/>
        </p:nvPicPr>
        <p:blipFill>
          <a:blip r:embed="rId1"/>
          <a:stretch/>
        </p:blipFill>
        <p:spPr>
          <a:xfrm>
            <a:off x="2124000" y="404640"/>
            <a:ext cx="460692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3 Imagen" descr=""/>
          <p:cNvPicPr/>
          <p:nvPr/>
        </p:nvPicPr>
        <p:blipFill>
          <a:blip r:embed="rId1"/>
          <a:stretch/>
        </p:blipFill>
        <p:spPr>
          <a:xfrm>
            <a:off x="1476360" y="115920"/>
            <a:ext cx="63356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 Marcador de contenido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164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Marcador de contenido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5168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 Marcador de contenido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19272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129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 Marcador de contenido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98508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41600" y="1125360"/>
            <a:ext cx="3909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n 2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8508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45:32Z</dcterms:created>
  <dc:creator>Prats Gironès</dc:creator>
  <dc:description/>
  <dc:language>en-US</dc:language>
  <cp:lastModifiedBy>nombre</cp:lastModifiedBy>
  <dcterms:modified xsi:type="dcterms:W3CDTF">2012-09-13T05:06:54Z</dcterms:modified>
  <cp:revision>17</cp:revision>
  <dc:subject/>
  <dc:title>Presentación de PowerPoint</dc:title>
</cp:coreProperties>
</file>