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546-C0F7-4CEB-AC95-7F5EE750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330-20BF-4E9F-8CF4-4C01E329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12A-B508-4FFD-B16F-B0D27F52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84F-CBC5-4FEA-961A-066EBFAC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B2A-9273-4FC2-87F8-4493538A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C76-6813-4A8D-A945-B3586FDD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518-CDA9-4C7F-8F40-30B08016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CFC-6759-4EBC-86E6-8E4CB4DC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397-E11C-4F7E-83A4-F220A4AF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41F-6C74-484B-8F62-2E6D2846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4D0-3073-44CC-AE8C-CF21D8EF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0B6-AE6F-4841-84DC-F5141A0A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845D-0A5A-4C89-BE6A-76286F6FF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Exposition_universelle_de_Paris_de_1889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Tour </a:t>
            </a:r>
            <a:r>
              <a:rPr b="1" lang="fr-FR" sz="4400" spc="-1" strike="noStrike">
                <a:solidFill>
                  <a:srgbClr val="0000ff"/>
                </a:solidFill>
                <a:latin typeface="Calibri"/>
              </a:rPr>
              <a:t>Eiff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4711680" cy="352764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5724360" y="206064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tour Eiffel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 symbole de la capitale française,  est une tour  de fer, de 324 m et 10100  tonnes,  construite par Gustave Eiffel pour l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‘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osition Universelle de Paris de 188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hampa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n 2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942000" cy="4586400"/>
          </a:xfrm>
          <a:prstGeom prst="rect">
            <a:avLst/>
          </a:prstGeom>
          <a:ln w="0">
            <a:noFill/>
          </a:ln>
        </p:spPr>
      </p:pic>
      <p:sp>
        <p:nvSpPr>
          <p:cNvPr id="70" name="3 CuadroTexto"/>
          <p:cNvSpPr/>
          <p:nvPr/>
        </p:nvSpPr>
        <p:spPr>
          <a:xfrm>
            <a:off x="5580000" y="1844640"/>
            <a:ext cx="28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ampagne est un vin effervescent protégé par une appellation d’origine contrôlée et qui tire son nom de la Champagne, une région du nord-est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ont d’Avign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n 2" descr=""/>
          <p:cNvPicPr/>
          <p:nvPr/>
        </p:nvPicPr>
        <p:blipFill>
          <a:blip r:embed="rId1"/>
          <a:stretch/>
        </p:blipFill>
        <p:spPr>
          <a:xfrm>
            <a:off x="249120" y="1916280"/>
            <a:ext cx="5316480" cy="3538440"/>
          </a:xfrm>
          <a:prstGeom prst="rect">
            <a:avLst/>
          </a:prstGeom>
          <a:ln w="0">
            <a:noFill/>
          </a:ln>
        </p:spPr>
      </p:pic>
      <p:sp>
        <p:nvSpPr>
          <p:cNvPr id="73" name="3 CuadroTexto"/>
          <p:cNvSpPr/>
          <p:nvPr/>
        </p:nvSpPr>
        <p:spPr>
          <a:xfrm>
            <a:off x="5867280" y="2205000"/>
            <a:ext cx="302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«Sur le pont d’Avignon» est une chanson populaire française qui remonte au XVe sièc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vignon est une ville du sud de la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Château de Versail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3 Marcador de contenido" descr=""/>
          <p:cNvPicPr/>
          <p:nvPr/>
        </p:nvPicPr>
        <p:blipFill>
          <a:blip r:embed="rId1"/>
          <a:stretch/>
        </p:blipFill>
        <p:spPr>
          <a:xfrm>
            <a:off x="490680" y="1989000"/>
            <a:ext cx="4809960" cy="3602160"/>
          </a:xfrm>
          <a:prstGeom prst="rect">
            <a:avLst/>
          </a:prstGeom>
          <a:ln w="0">
            <a:noFill/>
          </a:ln>
        </p:spPr>
      </p:pic>
      <p:sp>
        <p:nvSpPr>
          <p:cNvPr id="76" name="4 CuadroTexto"/>
          <p:cNvSpPr/>
          <p:nvPr/>
        </p:nvSpPr>
        <p:spPr>
          <a:xfrm>
            <a:off x="5651640" y="206064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hâteau de Versailles , situé au sud-ouest de Paris, fut la résidence des rois de F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l a 700 pièces, 2513 fenêtres, 352 cheminées et 483 miroirs. Il reçoit 3 millions de visiteurs par an dans le château et 7 millions dans le parc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0000" y="2060280"/>
            <a:ext cx="2952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s ingrédients  principaux des crêpes sont la farine, les oeufs et le lait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mm… delicieuse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n 4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3946680" cy="396396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1403280" y="75564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ff"/>
                </a:solidFill>
                <a:latin typeface="Calibri"/>
              </a:rPr>
              <a:t>Les crê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5 Marcador de contenido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4210200" cy="4422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3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petit Pr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 CuadroTexto"/>
          <p:cNvSpPr/>
          <p:nvPr/>
        </p:nvSpPr>
        <p:spPr>
          <a:xfrm>
            <a:off x="5584680" y="26496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Le Petit Princ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(1943) est l’œuvre la plus connue de l’écrivain français Antoine de Saint-Exupé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Napoléon Bonap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n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3811680" cy="4464360"/>
          </a:xfrm>
          <a:prstGeom prst="rect">
            <a:avLst/>
          </a:prstGeom>
          <a:ln w="0">
            <a:noFill/>
          </a:ln>
        </p:spPr>
      </p:pic>
      <p:sp>
        <p:nvSpPr>
          <p:cNvPr id="85" name="5 CuadroTexto"/>
          <p:cNvSpPr/>
          <p:nvPr/>
        </p:nvSpPr>
        <p:spPr>
          <a:xfrm>
            <a:off x="5651640" y="22478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poléon Bonaparte (Ajaccio, 1769 – île  Sainte-Hélène, 1821)  a été le général et empereur français le plus connu parce qu’il voulait conquérir toute l'Europe continenta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Imagen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400720" cy="5332320"/>
          </a:xfrm>
          <a:prstGeom prst="rect">
            <a:avLst/>
          </a:prstGeom>
          <a:ln w="0">
            <a:noFill/>
          </a:ln>
        </p:spPr>
      </p:pic>
      <p:sp>
        <p:nvSpPr>
          <p:cNvPr id="45" name="4 CuadroTexto"/>
          <p:cNvSpPr/>
          <p:nvPr/>
        </p:nvSpPr>
        <p:spPr>
          <a:xfrm>
            <a:off x="4859280" y="549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Calibri"/>
              </a:rPr>
              <a:t>Astérix et Obéli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CuadroTexto"/>
          <p:cNvSpPr/>
          <p:nvPr/>
        </p:nvSpPr>
        <p:spPr>
          <a:xfrm>
            <a:off x="5940360" y="213372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Calibri"/>
              </a:rPr>
              <a:t>Astérix le Gauloi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st une série de bande dessinée (BD) française créée le 29 octobre 1959 par René Goscinny et Albert Uderz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fromage roquef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3 Marcador de contenido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4614840" cy="311004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724360" y="213372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oquefort est un fromage français élaboré exclusivement avec des laits crus de breb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France on dit qu’il y a un fromage différent pour chaque jour de l’anne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Roland-Gar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3 Marcador de contenido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5105160" cy="2895480"/>
          </a:xfrm>
          <a:prstGeom prst="rect">
            <a:avLst/>
          </a:prstGeom>
          <a:ln w="0">
            <a:noFill/>
          </a:ln>
        </p:spPr>
      </p:pic>
      <p:sp>
        <p:nvSpPr>
          <p:cNvPr id="52" name="4 CuadroTexto"/>
          <p:cNvSpPr/>
          <p:nvPr/>
        </p:nvSpPr>
        <p:spPr>
          <a:xfrm>
            <a:off x="6012000" y="2492280"/>
            <a:ext cx="266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oland-Garros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st un tournoi de tennis sur terre battue créé en 1925, et qui se tient annuellement à Par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croiss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3 Marcador de contenido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941640" cy="2950920"/>
          </a:xfrm>
          <a:prstGeom prst="rect">
            <a:avLst/>
          </a:prstGeom>
          <a:ln w="0">
            <a:noFill/>
          </a:ln>
        </p:spPr>
      </p:pic>
      <p:sp>
        <p:nvSpPr>
          <p:cNvPr id="55" name="4 CuadroTexto"/>
          <p:cNvSpPr/>
          <p:nvPr/>
        </p:nvSpPr>
        <p:spPr>
          <a:xfrm>
            <a:off x="5508720" y="22050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croissant est le produit de boulangerie le plus célèbre et le plus connu de la Franc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is son origine est viennoi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a bague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3 Marcador de contenido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5129280" cy="3413160"/>
          </a:xfrm>
          <a:prstGeom prst="rect">
            <a:avLst/>
          </a:prstGeom>
          <a:ln w="0">
            <a:noFill/>
          </a:ln>
        </p:spPr>
      </p:pic>
      <p:sp>
        <p:nvSpPr>
          <p:cNvPr id="58" name="4 CuadroTexto"/>
          <p:cNvSpPr/>
          <p:nvPr/>
        </p:nvSpPr>
        <p:spPr>
          <a:xfrm>
            <a:off x="6012000" y="184464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baguette est emblématique de la France et très apprécié dans le monde ent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e Mont-Bla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3 Marcador de contenido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4806720" cy="3600360"/>
          </a:xfrm>
          <a:prstGeom prst="rect">
            <a:avLst/>
          </a:prstGeom>
          <a:ln w="0">
            <a:noFill/>
          </a:ln>
        </p:spPr>
      </p:pic>
      <p:sp>
        <p:nvSpPr>
          <p:cNvPr id="61" name="5 CuadroTexto"/>
          <p:cNvSpPr/>
          <p:nvPr/>
        </p:nvSpPr>
        <p:spPr>
          <a:xfrm>
            <a:off x="5940360" y="213372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Mont-Blanc a 4810,45 m et il est situé aux Alpes franco-italien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François Holla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4 CuadroTexto"/>
          <p:cNvSpPr/>
          <p:nvPr/>
        </p:nvSpPr>
        <p:spPr>
          <a:xfrm>
            <a:off x="4716360" y="23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’est François Hollande, le président de la République Française depuis le 15 mai 2012. Il est socialis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30372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Calibri"/>
              </a:rPr>
              <a:t>Le parf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n 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002200" cy="3701880"/>
          </a:xfrm>
          <a:prstGeom prst="rect">
            <a:avLst/>
          </a:prstGeom>
          <a:ln w="0">
            <a:noFill/>
          </a:ln>
        </p:spPr>
      </p:pic>
      <p:sp>
        <p:nvSpPr>
          <p:cNvPr id="67" name="4 CuadroTexto"/>
          <p:cNvSpPr/>
          <p:nvPr/>
        </p:nvSpPr>
        <p:spPr>
          <a:xfrm>
            <a:off x="5940360" y="2205000"/>
            <a:ext cx="28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parfums français sont très bien connus:  Dior, Chanel, Lancôme, Cacharel,  l’Oréal, Yves Saint-Laurent, Rochas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rasse, située dans le département des Alpes-Maritimes, est considérée  la capitale mondiale du parfu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7:45:32Z</dcterms:created>
  <dc:creator>Prats Gironès</dc:creator>
  <dc:description/>
  <dc:language>en-US</dc:language>
  <cp:lastModifiedBy>nombre</cp:lastModifiedBy>
  <dcterms:modified xsi:type="dcterms:W3CDTF">2012-09-13T05:06:36Z</dcterms:modified>
  <cp:revision>14</cp:revision>
  <dc:subject/>
  <dc:title>Presentación de PowerPoint</dc:title>
</cp:coreProperties>
</file>